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2E7-4179-4D2C-8DA5-E0B3C3BB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4C8E-EAFA-4AF3-99B7-13F7EC59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17EE-9A97-49A4-B0C8-6D912B39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6A0B-B586-4895-A3BE-42A55C17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ADED-2657-417D-A979-1DC5D9CF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52E-2D9E-42A2-A8FD-8FEF6970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063D-8C8B-454D-9E15-5556DED8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262-79FB-4A43-A777-869435B4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6F22-383E-4C96-9717-E1B9AD7F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7195-CFC0-4BFB-8642-07B8C468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2F62-66E8-456A-A7BA-963DF404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527-2EA9-4900-B657-F24EEAB8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6D11-3AF5-4377-BED7-89AE55217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920" y="836640"/>
            <a:ext cx="6408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тобы привлечь внимание людей к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блеме травматизма и гибели на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орогах в воскресенье у школы ребята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шили из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снега слепить машину и работника Д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636768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627280" y="765000"/>
            <a:ext cx="38512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836640"/>
            <a:ext cx="7570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19280" y="907920"/>
            <a:ext cx="608004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826920" y="836640"/>
            <a:ext cx="3776760" cy="283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851280" y="2924280"/>
            <a:ext cx="4064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88000" y="836640"/>
            <a:ext cx="3898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16000" y="765000"/>
            <a:ext cx="4351320" cy="3264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780000" y="2781360"/>
            <a:ext cx="44240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88000" y="836640"/>
            <a:ext cx="3898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26920" y="836640"/>
            <a:ext cx="4208760" cy="3155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51280" y="3068640"/>
            <a:ext cx="46404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2:27:36Z</dcterms:created>
  <dc:creator>007</dc:creator>
  <dc:description/>
  <dc:language>en-US</dc:language>
  <cp:lastModifiedBy>Admin</cp:lastModifiedBy>
  <dcterms:modified xsi:type="dcterms:W3CDTF">2011-04-19T17:51:44Z</dcterms:modified>
  <cp:revision>23</cp:revision>
  <dc:subject/>
  <dc:title>Слайд 1</dc:title>
</cp:coreProperties>
</file>